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-360" y="76320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5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DF6E-BAD1-4655-97A9-14B6023B3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B7D0C-E82E-492D-9CAA-192FF7027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CEB79-938E-4117-862E-DE6CD3CD8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77D4F-8CDC-4243-9AF8-F8BFCE63D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AA783-1361-4347-B048-27F88E475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1310D-B44F-42FF-A1BF-0612A68CF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9E11-0F52-430C-B36A-B1866BF408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0B8C-DA4E-421A-AE21-12569F6D5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7D29-C7E0-4EBD-BB0E-A3C9E2EB4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5F1A-909F-4F9A-B63F-59EC891C38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76966-D967-49D5-A736-38F4BD97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7D4F3-D385-4E08-9783-60301B72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5663E5-876A-42C4-B456-BA75C113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7E86D-4AA6-485D-905F-2F21F226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BDE9D-7655-4F37-9BF0-F548557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2CEFC-F4DA-4248-AC4F-6329450E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09FE6-E854-4314-94FE-75A16D97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796F4-17B0-4259-91DB-9EEBEB3A2C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46FC8-8181-4654-AE2A-4C847DCD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6FC36-2CCE-4188-9EC5-4DB7571D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9ECAF2-67F4-4B6D-A0AA-DF692A57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FBFAD-29F3-4959-8F58-5F3AA931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4CE791-5F36-472D-9EAD-B3B454621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D79A-8062-4528-BAF2-C546D56807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1B93-C84B-4107-AB25-3596271D9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C681-E4A7-4579-966C-BD4A14DA85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A1A5-777E-459F-B414-2F77BA26D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A5C2-5BF5-49C9-B66C-A81354FDA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6164-9674-419A-AF11-A55F860AA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CAB1-6CC5-4E74-BEAA-319E964ED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7149960"/>
            <a:ext cx="10080720" cy="3096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81820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69480" cy="52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2" marL="12384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3" marL="1695600" indent="-32400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4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5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6" marL="2171880" indent="-34308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504280" y="7195680"/>
            <a:ext cx="1069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2BC0E4C-12B6-4624-BFC6-A67ACC46E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8799480" y="438120"/>
            <a:ext cx="825480" cy="98604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503280" y="7196040"/>
            <a:ext cx="78645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4"/>
          <p:cNvSpPr/>
          <p:nvPr/>
        </p:nvSpPr>
        <p:spPr>
          <a:xfrm>
            <a:off x="503280" y="7164360"/>
            <a:ext cx="5905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&lt;codigo-disciplina/nome-evento&gt; – &lt;nome-professor-palestrant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8253D-2665-43FF-93EC-AB257B27A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ítulo-da-aula/palestra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nome-do-professor/apresentado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código-da-disciplina&gt; – &lt;nome-da-disciplina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-do-professor&gt;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091BBB6F-53D5-4E9A-9342-482D47F48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título-do-slid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111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&lt;item&gt;</a:t>
            </a:r>
            <a:endParaRPr b="0" lang="en-US" sz="32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1" marL="863640" indent="-32400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tillium Web"/>
              </a:rPr>
              <a:t>&lt;subitem&gt;</a:t>
            </a:r>
            <a:endParaRPr b="0" lang="en-US" sz="28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  <a:p>
            <a:pPr lvl="2" marL="1295280" indent="-287280">
              <a:lnSpc>
                <a:spcPct val="111000"/>
              </a:lnSpc>
              <a:spcBef>
                <a:spcPts val="113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tillium Web"/>
              </a:rPr>
              <a:t>&lt;subsubitem&gt;</a:t>
            </a:r>
            <a:endParaRPr b="0" lang="en-US" sz="24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2B8C59F-F053-402D-B5BB-EF1071004E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81835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swald Regular"/>
              </a:rPr>
              <a:t>&lt;slide-com-código-fonte&gt;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27640" cy="518004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int main() {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60c9"/>
                </a:solidFill>
                <a:latin typeface="Ubuntu Mono"/>
              </a:rPr>
              <a:t>printf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31640" indent="-323640">
              <a:lnSpc>
                <a:spcPct val="94000"/>
              </a:lnSpc>
              <a:buClr>
                <a:srgbClr val="3a3a3a"/>
              </a:buClr>
              <a:buFont typeface="Ubuntu Mono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2680" y="1767960"/>
            <a:ext cx="4427640" cy="527220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printf(“Hello, world!)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  <a:p>
            <a:pPr marL="450720" indent="-342720">
              <a:lnSpc>
                <a:spcPct val="94000"/>
              </a:lnSpc>
              <a:buClr>
                <a:srgbClr val="3a3a3a"/>
              </a:buClr>
              <a:buFont typeface="Ubuntu Mono"/>
              <a:buAutoNum type="arabicPeriod" startAt="2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Ubuntu Mon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2600" y="12600"/>
            <a:ext cx="10036440" cy="752976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2"/>
          <p:cNvSpPr/>
          <p:nvPr/>
        </p:nvSpPr>
        <p:spPr>
          <a:xfrm>
            <a:off x="8504280" y="7196040"/>
            <a:ext cx="10699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E9BF5E3F-E389-4EFB-9F84-D285FFF7FF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-9360" y="430200"/>
            <a:ext cx="10094760" cy="1006560"/>
          </a:xfrm>
          <a:prstGeom prst="rect">
            <a:avLst/>
          </a:prstGeom>
          <a:solidFill>
            <a:srgbClr val="0000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85400"/>
            <a:ext cx="818352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Oswald Regular"/>
              </a:rPr>
              <a:t>Slide 2.0 (fotos CC → unsplash.com)</a:t>
            </a:r>
            <a:endParaRPr b="0" lang="en-US" sz="4400" spc="-1" strike="noStrike">
              <a:solidFill>
                <a:srgbClr val="000000"/>
              </a:solidFill>
              <a:latin typeface="Oswald Regular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9282240" y="525600"/>
            <a:ext cx="684000" cy="8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2"/>
          <p:cNvSpPr/>
          <p:nvPr/>
        </p:nvSpPr>
        <p:spPr>
          <a:xfrm>
            <a:off x="503280" y="3138480"/>
            <a:ext cx="9070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Oswald Regular"/>
              </a:rPr>
              <a:t>&lt;titulo-(somente-palestras)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09760" y="4352760"/>
            <a:ext cx="907092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tillium Web"/>
              </a:rPr>
              <a:t>per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nome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tillium Web"/>
              </a:rPr>
              <a:t>&lt;email/twitter-do-palestrante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4233960" y="401760"/>
            <a:ext cx="1609560" cy="19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4T14:37:15Z</dcterms:created>
  <dc:creator/>
  <dc:description/>
  <cp:keywords/>
  <dc:language>en-US</dc:language>
  <cp:lastModifiedBy>Renato Novais</cp:lastModifiedBy>
  <dcterms:modified xsi:type="dcterms:W3CDTF">2017-05-09T11:56:22Z</dcterms:modified>
  <cp:revision>26</cp:revision>
  <dc:subject/>
  <dc:title>PowerPoint Presentation</dc:title>
</cp:coreProperties>
</file>