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8B38D-7F22-4A6C-A2F7-2DBFA0923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013C9-E6D3-4420-AB4E-A879F4F23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FC8B7-110D-45DA-ADF2-6B14966DC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76B8C-DB74-491A-974A-5D1DB5154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88DE8-6E26-4E04-A97C-4B4943F43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81B93-5C73-401A-94B9-F440A2C6D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C602-2784-4DAB-9A1D-E8B09565D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64F9-4A7C-4A54-B469-20DC4C1FA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4E2B-8D61-4390-99AE-C78818F0E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D862-552A-48C5-8102-B21A3CB37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F6772-952A-4C35-995B-6DCF23EE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EE47C-23A3-49C2-876D-320AEB5E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95D25-3710-4C21-9F97-3CF727EE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E39B6-1B49-4A18-8686-193AE9CE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4E567-59C9-4538-BDD9-CE9A8815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99976-2389-4737-85A0-02DA3487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32184-39EB-4566-A261-6577BF73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24A4-DE4E-45A4-8D52-C377B3C41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F8D75-878F-4DBA-90D7-FED1497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0631C-EF62-48CF-9C65-D8106CCD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91DBF-54AD-4A4A-98B0-08D0CDA1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49F98-2519-40E6-9705-DC1D8DA2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C8313-9F5F-4EAB-B0AE-7D000D5A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9B32-8C7F-41E5-8843-9001BE9926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ED3B-D378-4171-AA3D-501F61711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C50A-48B7-4387-99A4-28DC09816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BA93-9505-4ED7-A2BB-0B9AC7F56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B940-4B43-402B-916C-3DDE5B0D0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BAD3-B593-4A1E-A730-6E885CAFF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DABC-C75E-49DD-A802-F9A3F579A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F7682894-6DF0-43A5-A8AE-AE598DD86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B5EA8-1E75-401A-828D-5C91C61D5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3928E42-0009-4606-AF90-D24E871B9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B048BB92-1D16-48BC-BFE6-C3595EDFD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 fontScale="92000"/>
          </a:bodyPr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40156A53-5DD5-45D1-9ACB-E21FF0018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5T00:49:39Z</dcterms:modified>
  <cp:revision>25</cp:revision>
  <dc:subject/>
  <dc:title>PowerPoint Presentation</dc:title>
</cp:coreProperties>
</file>