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65E64-7146-45BA-A295-D547AA79D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6A91F-0EE9-44EF-A3E8-614D267D1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43442-ABC9-4CDD-8A7F-D7D104286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036DE-6EFF-4060-8CC0-57E11B827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25B2D-7D93-4E8B-BE82-C716DB8A6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16587-76BE-4BF5-903A-97E58F946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8D75-F8CF-4E5A-AA0A-7B57206DD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4278C-B855-4B73-A1FD-56F4D7891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2D65-FF03-4D5E-9A51-0CF074FE9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94E47-BEA7-4B8E-B770-C3DAA6581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7ADE0-074C-471A-A120-4B72FB5D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6581B-4EB3-44AB-9E6C-7C46ED5A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53F70-B761-4897-8D1C-47672A70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BA2A1-EF59-4EBF-A35F-ED1A442A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B3BBE-93E6-467F-A5AC-E959D26D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975AE-37ED-49A9-889F-78094A69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10EB7-0EFA-4972-8488-3EE46EE8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0819-C981-4718-9EE7-38D5C6C2B2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992A7-A47E-48DD-9DE4-3F796E52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B3F06-F6AC-4709-8642-27AFB095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57FD9-C5BE-473D-86C5-2557EFE8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FF118-C3C3-41BC-9068-BE26D5F9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F14E0-5319-49E0-BBED-AEC20B67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1E248-32B9-49C0-BA60-65029719AB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0ADE-6EDD-4EC6-9C73-CB2F2FDC1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2FAF-0BE0-4620-B0E0-8837FE7C2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5810-37C4-4BD5-B55C-DB2505A97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E435B-8FAC-410C-9BB9-37AF423E4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1C55-3F3E-4155-AB05-5B1BFF61D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A534-959B-4676-B7D3-4E65BD55E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 marL="12384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 marL="16956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8E9D6D40-FD8C-4252-BBB3-F66AE34418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81DC0-64CB-4AFF-8E71-4D4ADC7BF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F4BA0DCA-E1D4-4757-82C7-28DB7A4218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D3FAB1EB-4E3C-401C-9618-33DBB975A5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2890C218-0284-4E86-9B3B-F1FE6F4275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9T11:56:22Z</dcterms:modified>
  <cp:revision>26</cp:revision>
  <dc:subject/>
  <dc:title>PowerPoint Presentation</dc:title>
</cp:coreProperties>
</file>