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5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ED93D-0109-40AF-AF02-2FEE1DC2E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32BEB-0B24-40B5-92B6-2A570C783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93118-BF05-46E8-A3EA-7B5B82AC1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A68B8-15DA-41AF-85DD-458639B51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E577C-7B01-4545-B4D3-F633E8109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78D99-1794-45E3-BFBD-651F5BEDA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ED16F-C629-47FE-9F4D-1C3579C027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F773B-BED5-4D5D-847A-5849DF286A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95B22-B3B3-48DA-93BC-3F88F5ED6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2C0B9-70C0-48E6-A40D-9BCDF2E7D9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14A34-3E2F-41EC-9B5B-8DE70C76F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7C51F-C701-4213-B497-136AE3AC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D079A-149E-414D-8A1A-CAAAACD3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C955B-890D-4F7C-93E5-8C484079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18593-37E7-4954-AFD0-CA16D2EA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5FD4F-CED3-4869-A89B-008BC923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3777F-36BD-4275-A34F-D9DA43BB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3752F-BB73-47E7-B5E1-560FF15B3E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229A8-0463-480C-AEA9-86F0EEED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3AA61-9C6C-400B-8BBB-01F86AE4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E21B7-E510-444B-9976-7F26CCF6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BE164-7A3F-4818-93E1-CD9D28D50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EB9A3-96E4-4AE7-A3E6-700D82B06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E0537-DB58-4E8D-8E40-AF51321E98C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21BE1-E719-4E27-BC2E-9A3E27284C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E42B2-539C-4CAC-A09C-A28B51B2BF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D623B-C59F-430B-9E9E-B90F2894CA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67101-6AEC-4BE2-ABA8-565940D386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4BCEB-03CC-48C4-A1DC-860C32E9B0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F2160-00C4-46A6-97E9-81A6A4B390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7149960"/>
            <a:ext cx="10080720" cy="30960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81820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2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3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4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5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6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504280" y="7195680"/>
            <a:ext cx="106992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5FF7BE81-A6E4-419B-9505-64D5FB9A7B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8799480" y="438120"/>
            <a:ext cx="825480" cy="986040"/>
          </a:xfrm>
          <a:prstGeom prst="rect">
            <a:avLst/>
          </a:prstGeom>
          <a:ln w="0">
            <a:noFill/>
          </a:ln>
        </p:spPr>
      </p:pic>
      <p:sp>
        <p:nvSpPr>
          <p:cNvPr id="5" name="Text Box 6"/>
          <p:cNvSpPr/>
          <p:nvPr/>
        </p:nvSpPr>
        <p:spPr>
          <a:xfrm>
            <a:off x="503280" y="7196040"/>
            <a:ext cx="78645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4"/>
          <p:cNvSpPr/>
          <p:nvPr/>
        </p:nvSpPr>
        <p:spPr>
          <a:xfrm>
            <a:off x="503280" y="7164360"/>
            <a:ext cx="5905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&lt;codigo-disciplina/nome-evento&gt; – &lt;nome-professor-palestrant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BA - &lt;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543BA-FF8B-482C-8BDC-5077CF243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ítulo-da-aula/palestra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nome-do-professor/apresentado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código-da-disciplina&gt; – &lt;nome-da-disciplina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-do-professor&gt;@ifba.edu.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5666AC18-A8BF-4072-BA6C-58BA902BBD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título-do-slid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sngStrike" u="sng">
                <a:solidFill>
                  <a:srgbClr val="000000"/>
                </a:solidFill>
                <a:uFillTx/>
                <a:latin typeface="Titillium Web"/>
              </a:rPr>
              <a:t>&lt;subitem&gt;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sngStrike" u="sng">
                <a:solidFill>
                  <a:srgbClr val="000000"/>
                </a:solidFill>
                <a:uFillTx/>
                <a:latin typeface="Titillium Web"/>
              </a:rPr>
              <a:t>&lt;subitem&gt;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Titillium Web"/>
            </a:endParaRPr>
          </a:p>
          <a:p>
            <a:pPr lvl="2" marL="1295280" indent="-2872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subsubitem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subsubitem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12E96EBE-23FB-49DC-842B-A45EB67E56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slide-com-código-font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 fontScale="92000"/>
          </a:bodyPr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int main() {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60c9"/>
                </a:solidFill>
                <a:latin typeface="Ubuntu Mono"/>
              </a:rPr>
              <a:t>printf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767960"/>
            <a:ext cx="442764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60c9"/>
                </a:solidFill>
                <a:latin typeface="Ubuntu Mono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2600" y="12600"/>
            <a:ext cx="10036440" cy="752976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2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316F2B33-3B43-433A-8C8D-15A82B95FD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-9360" y="430200"/>
            <a:ext cx="10094760" cy="1006560"/>
          </a:xfrm>
          <a:prstGeom prst="rect">
            <a:avLst/>
          </a:prstGeom>
          <a:solidFill>
            <a:srgbClr val="000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85400"/>
            <a:ext cx="818352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Oswald Regular"/>
              </a:rPr>
              <a:t>Slide 2.0 (fotos CC → unsplash.com)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9282240" y="525600"/>
            <a:ext cx="68400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itulo-(somente-palestras)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pergun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nome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/twitter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4T14:37:15Z</dcterms:created>
  <dc:creator/>
  <dc:description/>
  <cp:keywords/>
  <dc:language>en-US</dc:language>
  <cp:lastModifiedBy>Renato Novais</cp:lastModifiedBy>
  <dcterms:modified xsi:type="dcterms:W3CDTF">2017-05-05T00:49:39Z</dcterms:modified>
  <cp:revision>25</cp:revision>
  <dc:subject/>
  <dc:title>PowerPoint Presentation</dc:title>
</cp:coreProperties>
</file>